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FDE7-6C73-41A5-80AA-17E6BAC3924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586B-5081-4BE9-89CE-62C685240C5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61EE-700C-403F-AA41-57FBFAD9081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10D3-EE11-4338-A623-2F5C8A9BAB3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30A-399C-43B8-B801-8DC895D60B0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5139-0BF3-4052-8C56-65C5532A865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1B4-DB69-4A99-A757-DD08967384C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BA83-8F5C-4DA7-AD08-44E6A78F4C2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857C-B981-4DC2-AB23-7B3762BAC55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E293-EB83-4339-BB88-DAF563037DC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B5DC-1B1F-4C37-8F08-A3C941E927B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6B5B-5193-4A82-8B23-51FD4BEDC5F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45C0-BD1A-4752-812E-5F7BB9AC145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ECFC-BFFC-4723-BFD6-CF23048FBC1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84FB-4574-441C-906B-D812A2582EA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51AD-C727-43B8-85D0-259DDE423BD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2092-75C8-456B-B567-D394F92CD09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D922-654B-4CA9-AF08-2205C433893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1EC6-CE2B-478F-95DF-8AC1C031348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5AF1-53F8-412B-823D-5018D2B0A1A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0F6D-601C-4690-9CD8-79F863DA8D4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97A3-4C0D-4CB7-AD2F-3107868409C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695D-4D5F-4F1C-9A2F-707BE94C3AD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F468-3E4E-45C4-88A0-069C658F807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F073-70B3-4754-A989-548B62438BC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C88C-C3BE-4885-B748-7849FC012D3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Is It Too Late to Prevent Catastrophic Climate Change?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ve Hami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8355-D328-45C3-B356-40E99A3E230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0BE5-4A6B-4C24-9FB2-E7D4978B51B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928C-944D-4DE4-AF84-A3CDCC2940E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81BF-5F4D-43F6-A11A-0291BC95282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37A7-AD50-4994-8BC6-79B67F05155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83F-83C1-4E81-840C-4B82322D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A4C-ABBD-4990-8B52-C67EDC5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67F-3150-4DB3-9086-07F405EB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E96-0230-4296-9875-D8BABE08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BEC-BC39-4B6D-B330-698A20E8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7FC-BB87-41FC-86EB-D4C51F98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F8C-E443-45CA-83AE-079BBB9D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64B-DB92-43EF-AFEC-C51DE49E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D50-0549-4722-8D9F-F16C0ADA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4D4-C269-44D1-A6A3-0E3085AA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EF7-9474-4D22-A805-0A1CA09F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BA3-C570-4CB8-8F9C-5A9CDF59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7026-509D-4831-8938-211862414D2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lead.org.au/bblp/Climate_Change/index.htm" TargetMode="External"/><Relationship Id="rId3" Type="http://schemas.openxmlformats.org/officeDocument/2006/relationships/hyperlink" Target="http://www.lead.org.au/bblp/Climate_Change/textspeech.htm" TargetMode="External"/><Relationship Id="rId4" Type="http://schemas.openxmlformats.org/officeDocument/2006/relationships/hyperlink" Target="http://www.lead.org.au/bblp/Climate_Change/Conf_Paper.pdf" TargetMode="External"/><Relationship Id="rId5" Type="http://schemas.openxmlformats.org/officeDocument/2006/relationships/hyperlink" Target="http://www.1010global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ead Toxicity &amp; Climate Change</a:t>
            </a:r>
            <a:br>
              <a:rPr sz="36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aylor, O’Brien, Smith (GLASS, Australia)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amp; Thuppil (NRCLPI, In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lass"/>
          <p:cNvPicPr/>
          <p:nvPr/>
        </p:nvPicPr>
        <p:blipFill>
          <a:blip r:embed="rId1"/>
          <a:stretch/>
        </p:blipFill>
        <p:spPr>
          <a:xfrm>
            <a:off x="6372360" y="333360"/>
            <a:ext cx="2361960" cy="161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LEAD Group"/>
          <p:cNvPicPr/>
          <p:nvPr/>
        </p:nvPicPr>
        <p:blipFill>
          <a:blip r:embed="rId2"/>
          <a:stretch/>
        </p:blipFill>
        <p:spPr>
          <a:xfrm>
            <a:off x="179280" y="404640"/>
            <a:ext cx="2895840" cy="1132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755640" y="4508640"/>
            <a:ext cx="7620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al Cut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d temperature rise (0.6ºC) one quarter of real rise (2.4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der negated by pollution (notably SO2) or stored in oc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ºC realized by 2050 if all emiss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by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l fired power, sea transport &amp; agriculture not included in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cuts required: 44-65% by 2020, &gt;78% by 2050 for 3°C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906840" y="1268280"/>
            <a:ext cx="69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Lead (Pb) mgt – Quadrant 4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6"/>
          <p:cNvGraphicFramePr/>
          <p:nvPr/>
        </p:nvGraphicFramePr>
        <p:xfrm>
          <a:off x="7812000" y="404640"/>
          <a:ext cx="69876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404640"/>
                    <a:ext cx="69876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ecipitation Predictions by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creasingly Intense Precipitation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 America, Europe, N Asia, SE Asia, Australia, Oceania, E Africa, W India, central western South Am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id Lowlands with Rivers Fed from Warming Rain Soaked Mountains: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creasingly Arid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outhern USA, Central America, Mediterranean, W Asia, southern Africa, south and western Australia,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id with Intense Precipitation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uthern and western Australia, the south-western USA, and the northern Mediterr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906840" y="1341360"/>
            <a:ext cx="69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Lead (Pb) mgt – Quadrant 4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8"/>
          <p:cNvGraphicFramePr/>
          <p:nvPr/>
        </p:nvGraphicFramePr>
        <p:xfrm>
          <a:off x="7812000" y="692280"/>
          <a:ext cx="69876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692280"/>
                    <a:ext cx="69876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6" dur="1" fill="hold"/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ust &amp; Ar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435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children’s seasonal blood lead variations are due to warmer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serves as sink for lead from gasoline (tetraethyl l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fine particulate pollution in soil when conditions a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of household dust from external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ity dust major source of significant lead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55640" y="148356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Lead (Pb) mgt – Quadrant 4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3"/>
          <p:cNvGraphicFramePr/>
          <p:nvPr/>
        </p:nvGraphicFramePr>
        <p:xfrm>
          <a:off x="7956720" y="1052640"/>
          <a:ext cx="6984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1052640"/>
                    <a:ext cx="6984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Batteries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22480" y="134064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win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b mgt – Quadrant 2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276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32000" y="1700280"/>
          <a:ext cx="611964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00280"/>
                    <a:ext cx="611964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3"/>
          <p:cNvGraphicFramePr/>
          <p:nvPr/>
        </p:nvGraphicFramePr>
        <p:xfrm>
          <a:off x="7956720" y="1197000"/>
          <a:ext cx="698400" cy="70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1197000"/>
                    <a:ext cx="6984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Batteries: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122120" y="1340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win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b mgt – Quadrant 2 of the GRID]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5928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153480" cy="44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10"/>
          <p:cNvGraphicFramePr/>
          <p:nvPr/>
        </p:nvGraphicFramePr>
        <p:xfrm>
          <a:off x="7956720" y="1197000"/>
          <a:ext cx="698400" cy="70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6720" y="1197000"/>
                    <a:ext cx="6984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Batteries: 5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122480" y="134064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win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b mgt – Quadrant 2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25892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-541440" y="1868400"/>
          <a:ext cx="5618160" cy="436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1868400"/>
                    <a:ext cx="5618160" cy="43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3672000" y="2095560"/>
            <a:ext cx="5472000" cy="36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9"/>
          <p:cNvGraphicFramePr/>
          <p:nvPr/>
        </p:nvGraphicFramePr>
        <p:xfrm>
          <a:off x="7885080" y="1268280"/>
          <a:ext cx="698400" cy="70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85080" y="126828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Batteries: 2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22480" y="134064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win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b mgt – Quadrant 2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396720" y="1414440"/>
            <a:ext cx="8747280" cy="482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9"/>
          <p:cNvGraphicFramePr/>
          <p:nvPr/>
        </p:nvGraphicFramePr>
        <p:xfrm>
          <a:off x="7956720" y="1125360"/>
          <a:ext cx="698400" cy="7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6720" y="112536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arbon Combustion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218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 fired power can provide &gt;12-45% of lead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7m tons of lead deposited in fly ash in US 2000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 emissions 41% of CO2 (2005) but 77% of SO2 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impact on warming neutral or negative, little black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gas moderate CO2, little SO2 or Pb; large fugitive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l high CO2, significant black carbon, SO2 &amp;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iomass combustion produces black carbon &amp; P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339200" y="1556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b mgt Loss– Quadrant 4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7956720" y="1125360"/>
          <a:ext cx="6984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112536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the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8002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reactors: Produce little GHG , no lead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disbursal or deposition during an accident potentially ma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electricity largest renewable segment; produces meth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thermal little GHG or Pb; limited by sites, little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, solar and other intermittent renewable: little GHG but requires electricity co-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impact of intermittent renewables predominantly electricity storage need at 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338120" y="1556640"/>
            <a:ext cx="62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b mgt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W&amp;CV Gain– Quadrant 3 of the GRID]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7956720" y="1125360"/>
          <a:ext cx="6984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112536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12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tatic Power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507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% of new lead acid batteries (1100 tons of lead) deployed st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frica and Asia car batteries are used to store electric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uter in developing world causes 0.9-1.6 Kg of lead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batteries 99.8% recycled: Uganda (2000) 10% recycle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339920" y="1556640"/>
            <a:ext cx="60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b mgt Los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W&amp;CV Neutral– Center of the GRID]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956720" y="1125360"/>
          <a:ext cx="6984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112536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2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liens: “Good heavens! The earth has gone pear-shaped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360" y="1600200"/>
            <a:ext cx="6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4358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% of GHG emissions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hicles 76%, sea 10%, air 12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 transport: 5-8% of European lead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half of GHG emissions from cars, light vehicles, 2-3 whe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transport short term greenhouse inhibitor due to S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travel IPCC estimates real impact 2-4 times it GHG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as (propeller aircraft fuel) leaded; nearly a third of US air lead emission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339200" y="1556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b mgt – Quadrant 4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7956720" y="1125360"/>
          <a:ext cx="6984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112536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6" dur="1" fill="hold"/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Vehicle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122480" y="1340640"/>
            <a:ext cx="60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b mgt – Quadrant 4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497800" cy="4608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68436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3"/>
          <p:cNvGraphicFramePr/>
          <p:nvPr/>
        </p:nvGraphicFramePr>
        <p:xfrm>
          <a:off x="8028000" y="981000"/>
          <a:ext cx="698400" cy="7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28000" y="98100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Vehicle Emission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122480" y="1340640"/>
            <a:ext cx="60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b mgt – Quadrant 4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424720" cy="4908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154764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4"/>
          <p:cNvGraphicFramePr/>
          <p:nvPr/>
        </p:nvGraphicFramePr>
        <p:xfrm>
          <a:off x="8028000" y="981000"/>
          <a:ext cx="698400" cy="7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28000" y="98100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ural Impacts &amp; Power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4358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% of GHG emissions from burning forest for farm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ass combustion (farm or domestic) produces lead e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c10% renewable obtains 55.1% of electricity from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emissions eliminated by switch from coal to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power plant takes 7-15 years to build: too late for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339200" y="1556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b mgt – Quadrant 4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7956720" y="1125360"/>
          <a:ext cx="6984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112536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5" dur="1" fill="hold"/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ising Lead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89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ustralian Pb Ore Grades Declining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Waste Incr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8028000" y="333360"/>
          <a:ext cx="75096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333360"/>
                    <a:ext cx="7509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617760" y="1627920"/>
            <a:ext cx="70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Gain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b mgt – Quadrant 2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0"/>
            <a:ext cx="9144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0" y="0"/>
          <a:ext cx="9144000" cy="612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commendations: Greenhous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35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tion of hydrocarbons used in transportation; abandon bio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gher diesel standards to restrict black carbon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iomass combustion for farming/domestic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insulation to houses while removing ceiling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incentives to industries to reduce GHG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for biosequestration programs rather than geoseque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priority: Reducing carbon combustion for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337760" y="1556640"/>
            <a:ext cx="62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Gain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Pb mgt – Quadrant 1 of the GRID]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5"/>
          <p:cNvGraphicFramePr/>
          <p:nvPr/>
        </p:nvGraphicFramePr>
        <p:xfrm>
          <a:off x="8028000" y="1268280"/>
          <a:ext cx="6984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126828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4" dur="1" fill="hold"/>
                                  <p:tgtEl>
                                    <p:spTgt spid="1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commendations: Lea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equestration or chemical stabilization of lead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on lead min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the m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courage recyc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new vehicles &amp; reduce numbers of vehicles being made, by providing public transport, bikeways, walkways &amp; incentives to reduce vehicle kilometres travelled (V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lead recycling, battery deposit or repurchase and convert small-scale lead battery works into collection points, and ensure all batteries are recycled at large-scale facilities covered by OH&amp;S and Environmental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 leaded AvGas glob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337760" y="1556640"/>
            <a:ext cx="62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Gain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Pb mgt – Quadrant 1 of the GRID]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8028000" y="1268280"/>
          <a:ext cx="6984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1268280"/>
                    <a:ext cx="6984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3" dur="1" fill="hold"/>
                                  <p:tgtEl>
                                    <p:spTgt spid="1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586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0" y="3284640"/>
            <a:ext cx="4768920" cy="3573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4"/>
          <a:stretch/>
        </p:blipFill>
        <p:spPr>
          <a:xfrm>
            <a:off x="4788000" y="3046320"/>
            <a:ext cx="4356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commendations: A Smarter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ws to prevent lead diversion from lead acid batteries to unregulated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tion of combustion of materials that may contain l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&amp; nutritional supplements, veganism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crease all fuel burning by localising all production, encouraging urban gardens, decreasing manufacturing &amp; ending the era of consumerism &amp; long-ha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lead poisoning in every way we can, will promote the Age of Reason necessary to mitigate and adjust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7885080" y="549360"/>
          <a:ext cx="6984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549360"/>
                    <a:ext cx="6984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6"/>
          <p:cNvSpPr/>
          <p:nvPr/>
        </p:nvSpPr>
        <p:spPr>
          <a:xfrm>
            <a:off x="1187280" y="1413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Gain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Pb mgt – Quadrant 1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2" dur="1" fill="hold"/>
                                  <p:tgtEl>
                                    <p:spTgt spid="1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lobal Warming &amp; Climate Variability (GW&amp;C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1° to 6.4° increase in temperatures predicted during the 21st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s designed to allow a 50% chance of temperature rise of ≤ 2°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-40% GHG emission cut by developed nations by 20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ing nations must peak GHG emissions before 20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% greenhouse emission cut relative to 1990 required by 20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2°C increas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ppearance of mountain gla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ge to coral eco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e impact on the Sa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wing of arctic including Gree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" dur="1" fill="hold"/>
                                  <p:tgtEl>
                                    <p:spTgt spid="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5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  <p:animClr clrSpc="rgb">
                                <p:cBhvr>
                                  <p:cTn id="44" dur="1" fill="hold"/>
                                  <p:tgtEl>
                                    <p:spTgt spid="5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  <p:animClr clrSpc="rgb">
                                <p:cBhvr>
                                  <p:cTn id="45" dur="1" fill="hold"/>
                                  <p:tgtEl>
                                    <p:spTgt spid="5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  <p:animClr clrSpc="rgb">
                                <p:cBhvr>
                                  <p:cTn id="46" dur="1" fill="hold"/>
                                  <p:tgtEl>
                                    <p:spTgt spid="5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716360" y="2565360"/>
            <a:ext cx="3673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Thankyou!</a:t>
            </a:r>
            <a:br>
              <a:rPr sz="4000"/>
            </a:b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0"/>
          <p:cNvSpPr/>
          <p:nvPr/>
        </p:nvSpPr>
        <p:spPr>
          <a:xfrm>
            <a:off x="5003640" y="3716280"/>
            <a:ext cx="33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slide show at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www.lead.org.au/bblp/Climate_Change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he speech at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www.lead.org.au/bblp/Climate_Change/textspeech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references &amp; graphics permissions see the paper at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www.lead.org.au/bblp/Climate_Change/Conf_Pape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4643280" y="26028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author Elizabeth O’Brien (left) asks each person who reads this presentation to convince their organisation &amp; their country to join up to reduce their carbon emissions by 10% by 2010 to make 2010 the peaking year. Join up at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5"/>
              </a:rPr>
              <a:t>www.1010global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ojected GHG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50920" y="1324080"/>
            <a:ext cx="8569080" cy="4410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332000" y="579672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ssions reduction rates to stay within a 2ºC incre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Health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replaces minerals (notably iron and calcium) within the body. Prevents haemoglobin formation in red blood cells producing ana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µg/dL decreases kids IQ by 7.4 pts compared to 1µg/dL so this is aptly called “The Age of Stupi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µg/dL of lead in the blood increases risk of early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considers &lt;10µg/dL an adequate goal; researchers calling on WHO to halve that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 Group says reduce goal to &lt;2µg/d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50% of people alive today have probably had a Blood lead above 10µg/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all be smarter and live longer were it not for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umulative Lead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68360" y="6270480"/>
            <a:ext cx="815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ad is in Everything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&amp;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bn have no regulation of lead in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use-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petrol not yet banned in 14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s following US ban: $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10-319 b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arachi (2002) 80.5% of kids &gt;10µ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5 Indian cities (2005) kids ave. 12.1µ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&gt;33% kids in China &gt;10µg/dL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is in unleaded petrol, diesel, coal, biomass, dung, computers, solar panel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6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Gain leads to Loss etc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40360" y="2852640"/>
            <a:ext cx="30355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Gain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leads to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leads to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10"/>
          <p:cNvGraphicFramePr/>
          <p:nvPr/>
        </p:nvGraphicFramePr>
        <p:xfrm>
          <a:off x="395280" y="1268280"/>
          <a:ext cx="552276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552276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 Toxicity &amp; Climate Change: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limat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, India and USA have rejected recommended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locks in minimum 3°C increase – Stern/Garnaut max.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ing crop yields, aridity, food shortage Africa &amp; W.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run-off decline Mediterranean and S. Africa / Amazon rainforest shrinks / US hurricane bill do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hara greens but W African monsoon ceases / Boreal forest dieback / El Niňo intens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33760" y="1413000"/>
            <a:ext cx="69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W&amp;CV Loss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Lead (Pb) mgt – Quadrant 4 of the GR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7812000" y="476280"/>
          <a:ext cx="69876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476280"/>
                    <a:ext cx="69876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22:07:56Z</dcterms:created>
  <dc:creator>Ian Smith;Elizabeth O'Brien;Venkatesh Thuppil;Robert Taylor</dc:creator>
  <dc:description/>
  <cp:keywords>The LEAD Group Inc.;global lead advice &amp; support service;NRCLPI</cp:keywords>
  <dc:language>en-US</dc:language>
  <cp:lastModifiedBy>David</cp:lastModifiedBy>
  <dcterms:modified xsi:type="dcterms:W3CDTF">2009-12-21T11:33:39Z</dcterms:modified>
  <cp:revision>43</cp:revision>
  <dc:subject/>
  <dc:title>Lead Toxicity &amp; Climate Change” Taylor, O’Brien, Venkatesh &amp; Smith</dc:title>
</cp:coreProperties>
</file>