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73E7-AD15-4B12-B9E0-254F227D0F2A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E7A6-14FE-4D33-AB31-EC03A377F896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87E8-4781-4224-AFFB-635EA98A2E84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1B8A-BDC4-4907-B1F0-B4FB0962349E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8434-973F-47D3-A1FB-B5B2EC3C40C3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8B44-5FA1-4BF0-AE45-FCB282723467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1F4D-1829-4875-845E-C14759C0CC68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5750-BE75-40EB-A6CB-0F4CFA31D3D4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ED64-EB2F-4E8A-9E1F-449F103B3CCC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CE40-79E4-476F-86A8-10CEC0E359DB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0150-943A-40B0-8C51-17A799CBB12A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CF6F-0F38-4A19-B8D3-5C41F6735526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730E-6E58-4F36-8B89-75F404308838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9E72-DAD8-4226-9229-F904BE56F010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57D0-017B-4AD6-A2B9-52118C7961AD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B675-54A4-4D51-AB10-9AA6B4B34048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790B-D3A3-4EEE-BA05-9F0D7F15197E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1AC0-353B-49DF-8339-5ED36387E9DF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D772-7F2C-4219-BBEE-09D943AF5A93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3C3C-8FB8-4691-B587-474313E6D89F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821A-068D-4F9B-961D-1B27A3943599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5B8A-834C-4FBD-A8B7-8D868647ED64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AE04-5411-4312-9311-883A17CCC0E2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F101-B8A0-4CD6-995F-C13053D5DB3A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CDA3-7C90-416B-977F-7FF883BF90D0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F50E-2F25-4378-9F7D-3E9F6664FCF7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7DB5-5FF0-4000-8A30-36AE3DCFB026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064D-23B4-4825-A510-E8882FEFB8FF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3BD8-3B9C-4AF8-B684-F5F0E03B7A19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0844-2771-4607-A00D-1C0B5CA38A18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8113-F746-461F-892A-78744C5E4676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8E42-DD37-463F-B3ED-FA28EFFA0487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2100-7E80-4170-AFAD-20CC7A494DAC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FF9C-F5AD-4500-9F89-B1B188DFB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2296-B9EB-45BA-8261-6145AA6B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E9E2-5F80-468E-AEBB-8C4BD0567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2D43-1BAA-4988-A28F-655C5731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5E1B-9B2E-44BA-BABC-C737908FD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E094-EDBB-4A53-B366-F7CD225D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AFAD-3F66-4EBC-914D-F60392C0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38C8-9A82-45FB-8A84-C32B3CFD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20AF-B2ED-421A-B4CD-68F86DF5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60E4-9807-426C-A47E-CE1AA5DF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5D62-3538-4A5C-B77E-6FE2D18E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22CD-9695-4743-AFB6-3363C711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6139-8811-430F-AB82-B506B214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E046-3457-4F79-B152-626353E5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E129-49E0-41C1-9170-1CD93D0E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21CC-A169-4096-B1E9-A2AAA7F1A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ADF0-1FA8-4E36-AA05-46539296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84FC1-7291-4CF8-BD13-6ED5C1D5A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037C3-6EA6-4B7E-8063-E76C3BAF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44502-C72E-494F-A4CD-C28E7BAF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BA567-49D4-461C-9269-F6DC7D67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8AD7B-17B9-4CEB-A930-87549983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2230-1EC4-4073-8C1D-E78994B0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D9FAB-AFB4-458F-9FBA-A82A7ED7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F5BA4-3A5C-44A3-BDA7-057BA4AC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59F3A-6E7D-4CDD-B9BD-326F4CB3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757B2-A0C1-4CBC-B2E4-360E7CBB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05FD1-3BC5-4618-AA27-AE5474F7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402AB-DC29-42AD-9352-C225A2825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39821-8E62-486C-B3E5-5EFB81744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FCCBC-7CE5-4FED-969B-714447980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94878-66E3-41C1-B886-E35AC8B9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AC349-E4FF-4493-B255-1917840E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F6AF-1FD5-40D3-9B9A-DDC819B2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7C09F-CD64-4ABC-8D88-EDA17DFB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CB36F-E580-473D-8041-A266F974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00D64-BD72-41CE-A77F-73E1D1C0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1F41E-F405-4872-B625-6ED6FD8C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E84DA-D0FA-4955-93BC-D0E10A0A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306D1-2205-41B2-9F41-1DF1A0F2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9AC00-9105-4072-9EC9-0799F3BB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2BB4C-E4D9-4C59-ADE3-BC3453F0F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C04F5-19F5-4CA8-9726-80BFFDFD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47E1-7592-44DC-995B-99709E41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5CF2-74A4-4067-847E-8BDD519B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D6BD-FDC1-477D-A1BE-B7B8EF58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07A6-86A3-482D-8B6B-BF2A44D1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EB86-51F1-4E63-9BB9-1768D1B7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S:\Leadgpc\BB Lead Poisoning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39E0-3A86-426B-A6DD-5765E5932DA6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4" name="Picture 37" descr="C:\WINDOWS\Application Data\Microsoft\Media Catalog\Image2.bmp"/>
          <p:cNvPicPr/>
          <p:nvPr/>
        </p:nvPicPr>
        <p:blipFill>
          <a:blip r:embed="rId5"/>
          <a:stretch/>
        </p:blipFill>
        <p:spPr>
          <a:xfrm>
            <a:off x="6781680" y="7920"/>
            <a:ext cx="2403720" cy="169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0" name="Picture 37" descr="C:\WINDOWS\Application Data\Microsoft\Media Catalog\Image2.bmp"/>
          <p:cNvPicPr/>
          <p:nvPr/>
        </p:nvPicPr>
        <p:blipFill>
          <a:blip r:embed="rId5"/>
          <a:stretch/>
        </p:blipFill>
        <p:spPr>
          <a:xfrm>
            <a:off x="6781680" y="7920"/>
            <a:ext cx="2403720" cy="16956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d1eaee"/>
                </a:solidFill>
                <a:latin typeface="Times New Roman"/>
              </a:rPr>
              <a:t>S:\Leadgpc\BB Lead Poisoning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5326-2750-43E2-BC80-44195951D2C8}" type="slidenum">
              <a:rPr b="0" lang="en-A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11" name="Picture 37" descr="C:\WINDOWS\Application Data\Microsoft\Media Catalog\Image2.bmp"/>
          <p:cNvPicPr/>
          <p:nvPr/>
        </p:nvPicPr>
        <p:blipFill>
          <a:blip r:embed="rId5"/>
          <a:stretch/>
        </p:blipFill>
        <p:spPr>
          <a:xfrm>
            <a:off x="6781680" y="7920"/>
            <a:ext cx="2403720" cy="16956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d1eaee"/>
                </a:solidFill>
                <a:latin typeface="Times New Roman"/>
              </a:rPr>
              <a:t>S:\Leadgpc\BB Lead Poisoning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C302-C59F-4E50-9677-BD1AC40F9577}" type="slidenum">
              <a:rPr b="0" lang="en-A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4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ight Triangle 15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16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reeform 18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S:\Leadgpc\BB Lead Poisoning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230E-C3C5-4E7D-A63E-988D17092CEB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2640" y="81396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Lead Poisoning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9640" y="2636640"/>
            <a:ext cx="8229600" cy="22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. Ben Balz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echnical Advisory Board memb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LEAD group (general practic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Lead Education and Abatement Design Group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FA0D-C5DE-4262-9301-13100370266A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6019920" y="61722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6 September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Release of lead during osteolysi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68360" y="1989000"/>
            <a:ext cx="784872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3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Pregnancy increases mobilization of lead from maternal skeleton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en-AU" sz="1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Gulson BL, Jameson CW, Mahaffey KR, Mizon KJ, Korsch MJ, Vimpani G.. J Lab Clin Med 1997a;130:51-62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3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Mobilization of lead from the skeleton during the post-natal period is larger than during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p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regnanc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.</a:t>
            </a:r>
            <a:br>
              <a:rPr sz="2400"/>
            </a:br>
            <a:r>
              <a:rPr b="1" lang="en-AU" sz="1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Gulson BL, Mahaffey KR, Jameson CW, Mizon KJ, Korsch MJ, Cameron MA, Eisman JA. J Lab Clin Med 1998a;131:324-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Lead is released in menopausal bone lo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Lead levels have second peak in middle age- more in men than women (NHANES 3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Lead follows calcium into and out of bo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E14A-6290-4DE9-80BE-CE3C14203FFA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2640" y="81396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Lead movement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71640" y="1988640"/>
            <a:ext cx="752472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In childhood, blood lead levels reflect the environmental lead level ie </a:t>
            </a:r>
            <a:r>
              <a:rPr b="0" lang="en-US" sz="2600" spc="-1" strike="noStrike">
                <a:solidFill>
                  <a:srgbClr val="0f6fc6"/>
                </a:solidFill>
                <a:latin typeface="Constantia"/>
                <a:ea typeface="Times New Roman"/>
              </a:rPr>
              <a:t>exogenou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lead. Protection requires placing  barriers between the child and the le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In adults, lead levels reflect the release of </a:t>
            </a:r>
            <a:r>
              <a:rPr b="0" lang="en-US" sz="2600" spc="-1" strike="noStrike">
                <a:solidFill>
                  <a:srgbClr val="ff9933"/>
                </a:solidFill>
                <a:latin typeface="Constantia"/>
                <a:ea typeface="Times New Roman"/>
              </a:rPr>
              <a:t>endogenou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lead from bone, as well as the intake of </a:t>
            </a:r>
            <a:r>
              <a:rPr b="0" lang="en-US" sz="2600" spc="-1" strike="noStrike">
                <a:solidFill>
                  <a:srgbClr val="0f6fc6"/>
                </a:solidFill>
                <a:latin typeface="Constantia"/>
                <a:ea typeface="Times New Roman"/>
              </a:rPr>
              <a:t>exogenou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lead. Protection requires prevention of exposure plus preservation of bone density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9AC0-140C-4F61-812F-8CF63C66F014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6121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Calibri"/>
              </a:rPr>
              <a:t>Data from the US NHANES 3 study showing the second peak of lead levels in adulthood. Higher adult male levels reflect occupation and hobby. High risk occupations would be even higher. Women get a post-menopausal peak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7361-C2BE-4E30-829D-210A216BA55B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4" descr="C:\WINDOWS\Application Data\Microsoft\Media Catalog\NHANES Image2.bmp"/>
          <p:cNvPicPr/>
          <p:nvPr/>
        </p:nvPicPr>
        <p:blipFill>
          <a:blip r:embed="rId1"/>
          <a:stretch/>
        </p:blipFill>
        <p:spPr>
          <a:xfrm>
            <a:off x="1042920" y="2060640"/>
            <a:ext cx="701064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602136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alibri"/>
              </a:rPr>
              <a:t>Lead and Race. Data from the US NHANES 3 study showing differences with race –probably reflecting differences in accommodation and occupation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20AA-2033-4298-B0E6-FE407C15C353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icture 4" descr="C:\WINDOWS\Application Data\Microsoft\Media Catalog\NHANES Image1.bmp"/>
          <p:cNvPicPr/>
          <p:nvPr/>
        </p:nvPicPr>
        <p:blipFill>
          <a:blip r:embed="rId1"/>
          <a:stretch/>
        </p:blipFill>
        <p:spPr>
          <a:xfrm>
            <a:off x="611280" y="1700280"/>
            <a:ext cx="815328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508360" y="1916280"/>
            <a:ext cx="316692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Health Effects of Lead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435640" y="4005000"/>
            <a:ext cx="31860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centration relat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Q/ delinquency related to total dosage in childhoo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A3A6-3C40-499D-8EC3-63D00602D4F9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4" descr="C:\WINDOWS\Application Data\Microsoft\Media Catalog\health.gif"/>
          <p:cNvPicPr/>
          <p:nvPr/>
        </p:nvPicPr>
        <p:blipFill>
          <a:blip r:embed="rId1"/>
          <a:stretch/>
        </p:blipFill>
        <p:spPr>
          <a:xfrm>
            <a:off x="611280" y="333360"/>
            <a:ext cx="43956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5639040" cy="1326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Recommended Lead level &lt;0.48 </a:t>
            </a:r>
            <a:r>
              <a:rPr b="1" lang="en-AU" sz="3600" spc="-1" strike="noStrike">
                <a:solidFill>
                  <a:srgbClr val="04617b"/>
                </a:solidFill>
                <a:latin typeface="Calibri"/>
                <a:ea typeface="Times New Roman"/>
              </a:rPr>
              <a:t>µmol/L </a:t>
            </a: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en-AU" sz="3600" spc="-1" strike="noStrike">
                <a:solidFill>
                  <a:srgbClr val="04617b"/>
                </a:solidFill>
                <a:latin typeface="Calibri"/>
                <a:ea typeface="Times New Roman"/>
              </a:rPr>
              <a:t>(10 µg/dL)</a:t>
            </a:r>
            <a:r>
              <a:rPr b="1" lang="en-US" sz="3600" spc="-1" strike="noStrike">
                <a:solidFill>
                  <a:srgbClr val="04617b"/>
                </a:solidFill>
                <a:latin typeface="Calibri"/>
                <a:ea typeface="Times New Roman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066320" y="2437920"/>
            <a:ext cx="6745320" cy="37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&lt; 0.48µmol/L (10µg/dL)</a:t>
            </a:r>
            <a:br>
              <a:rPr sz="2600"/>
            </a:br>
            <a:r>
              <a:rPr b="1" lang="en-AU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lang="en-AU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NHMRC Go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&gt;</a:t>
            </a:r>
            <a:r>
              <a:rPr b="1" lang="en-AU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0.48µmol/L (10µg/dL)</a:t>
            </a:r>
            <a:br>
              <a:rPr sz="2600"/>
            </a:br>
            <a:r>
              <a:rPr b="1" lang="en-AU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= elevat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&gt;0.72µmol/L (15µg/dL)</a:t>
            </a:r>
            <a:br>
              <a:rPr sz="2600"/>
            </a:br>
            <a:r>
              <a:rPr b="1" lang="en-AU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=substantially elevated. </a:t>
            </a:r>
            <a:r>
              <a:rPr b="1" lang="en-AU" sz="2600" spc="-1" strike="noStrike">
                <a:solidFill>
                  <a:srgbClr val="ff9933"/>
                </a:solidFill>
                <a:latin typeface="Constantia"/>
                <a:ea typeface="Times New Roman"/>
              </a:rPr>
              <a:t>Notifiable leve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1</a:t>
            </a:r>
            <a:r>
              <a:rPr b="1" lang="en-AU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.20µmol/L (25µg/dL)</a:t>
            </a:r>
            <a:br>
              <a:rPr sz="2600"/>
            </a:br>
            <a:r>
              <a:rPr b="1" lang="en-AU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= dangerously elevat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&gt;2.20µmol/L (45µg/dL)=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Constantia"/>
                <a:ea typeface="Times New Roman"/>
              </a:rPr>
              <a:t>S</a:t>
            </a:r>
            <a:r>
              <a:rPr b="1" lang="en-AU" sz="2600" spc="-1" strike="noStrike">
                <a:solidFill>
                  <a:srgbClr val="ff9933"/>
                </a:solidFill>
                <a:latin typeface="Constantia"/>
                <a:ea typeface="Times New Roman"/>
              </a:rPr>
              <a:t>ymptomati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7539-4034-4E00-BCBD-BC1AC86A1BEF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57610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Symptoms from lead are rare!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D751-BAFB-434E-8498-56159A473225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4" descr="C:\WINDOWS\Application Data\Microsoft\Media Catalog\Symptoms at a glance.bmp"/>
          <p:cNvPicPr/>
          <p:nvPr/>
        </p:nvPicPr>
        <p:blipFill>
          <a:blip r:embed="rId1"/>
          <a:srcRect l="0" t="0" r="425" b="0"/>
          <a:stretch/>
        </p:blipFill>
        <p:spPr>
          <a:xfrm>
            <a:off x="684360" y="1557360"/>
            <a:ext cx="738648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601992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Lead and Neurodevelopment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95280" y="2060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Each 0.48 µmol/L(10µg/dL)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in childr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</a:t>
            </a:r>
            <a:r>
              <a:rPr b="1" lang="en-A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= 4 to 7 IQ points (US Acad. Pediatric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Industry/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Australian </a:t>
            </a:r>
            <a:r>
              <a:rPr b="1" lang="en-A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government consensus</a:t>
            </a:r>
            <a:br>
              <a:rPr sz="2400"/>
            </a:br>
            <a:r>
              <a:rPr b="1" lang="en-A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of 3-5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IQ poin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Effects on behaviour are FAR WORS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Delinquency rates are 8 times higher in the top 30% of bone lead. Needleman 1996.</a:t>
            </a:r>
            <a:br>
              <a:rPr sz="2400"/>
            </a:br>
            <a:r>
              <a:rPr b="0" lang="en-AU" sz="1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Needleman, Herbert L. et al, "Bone Lead Levels and Delinquent Behavior," JOURNAL OF THE AMERICAN MEDICAL ASSOCIATION Vol. 275, No. 5 (February 7, 1996), pgs.363-369.</a:t>
            </a:r>
            <a:r>
              <a:rPr b="1" lang="en-AU" sz="1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Measurable adverse behaviour changes in 2 year olds Mendelsohn 1999. </a:t>
            </a:r>
            <a:r>
              <a:rPr b="1" lang="en-AU" sz="1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Alan L. Mendelsohn, Benard P. Dreyer, Arthur H. Fierman, Carolyn M. Rosen, Lori A. Legano, Hillary A. Kruger, Sylvia W. Lim, and Cheryl D. Courtlandt "</a:t>
            </a:r>
            <a:r>
              <a:rPr b="0" lang="en-AU" sz="1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Low-Level Lead Exposure and Behavior in Early Childhood“</a:t>
            </a:r>
            <a:r>
              <a:rPr b="1" lang="en-US" sz="1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P</a:t>
            </a:r>
            <a:r>
              <a:rPr b="1" lang="en-AU" sz="1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ediatrics 1998; 101: e10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0464-1410-4978-A20F-EC3F7B375033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16000" y="620280"/>
            <a:ext cx="3944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Lead and IQ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769D-9472-4B92-85D2-A3998FA3AF7A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4" descr="C:\WINDOWS\Application Data\Microsoft\Media Catalog\IQ graph.bmp"/>
          <p:cNvPicPr/>
          <p:nvPr/>
        </p:nvPicPr>
        <p:blipFill>
          <a:blip r:embed="rId1"/>
          <a:stretch/>
        </p:blipFill>
        <p:spPr>
          <a:xfrm>
            <a:off x="250920" y="1773360"/>
            <a:ext cx="815328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86920" y="333360"/>
            <a:ext cx="533412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Calibri"/>
              </a:rPr>
              <a:t>Toxicology of Lead 1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755640" y="2491920"/>
            <a:ext cx="7848720" cy="31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Lead disrupts the main structural components of the blood-brain barrier by </a:t>
            </a:r>
            <a:r>
              <a:rPr b="0" lang="en-AU" sz="2400" spc="-1" strike="noStrike">
                <a:solidFill>
                  <a:srgbClr val="ff9933"/>
                </a:solidFill>
                <a:latin typeface="Constantia"/>
              </a:rPr>
              <a:t>primary injury to astrocytes with a secondary damage to the endothelial microvasculature.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 Within the brain, lead-induced damage occurs preferentially in the </a:t>
            </a:r>
            <a:r>
              <a:rPr b="0" lang="en-AU" sz="2400" spc="-1" strike="noStrike">
                <a:solidFill>
                  <a:srgbClr val="ff9933"/>
                </a:solidFill>
                <a:latin typeface="Constantia"/>
              </a:rPr>
              <a:t>prefrontal cerebral cortex, hippocampus and cerebellum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. Some characteristic clinical features of lead poisoning may be attributed to this specific anatomical patter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DC63-B06C-48BD-A79C-B57B4F3FE226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53006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Lead Poisoning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066680" y="1981080"/>
            <a:ext cx="784872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ad has no known biological func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re is no proven safe lower limit for lea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ad P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competes with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++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t is cheap, useful, easy to mine, therefo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ad is ubiquitous- in air, food, water, soil, ceilings 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aded petrol means that all environmental dusts are high in lead- contaminating ceiling dust, topsoil, window wells 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D31F-0446-4C7D-928B-2FB0C793C00B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oxicology of Lead cont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639720" indent="-245880">
              <a:lnSpc>
                <a:spcPct val="9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Although the molecular targets for lead are unknown, a vast amount of evidence accumulated over many years has shown that lead disrupts processes that are regulated by calcium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onstantia"/>
              </a:rPr>
              <a:t>P</a:t>
            </a:r>
            <a:r>
              <a:rPr b="0" lang="en-AU" sz="2000" spc="-1" strike="noStrike">
                <a:solidFill>
                  <a:srgbClr val="ff9933"/>
                </a:solidFill>
                <a:latin typeface="Constantia"/>
              </a:rPr>
              <a:t>icomolar concentrations of lead can replace micromolar concentrations of calcium</a:t>
            </a: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AU" sz="2000" spc="-1" strike="noStrike">
                <a:solidFill>
                  <a:srgbClr val="ff9933"/>
                </a:solidFill>
                <a:latin typeface="Constantia"/>
              </a:rPr>
              <a:t>in a protein kinase C enzyme assay.</a:t>
            </a: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 Furthermore, lead activates protein kinase C in intact cells and induces the expression of new genes by a mechanism dependent on protein kinase C. We propose that the learning deficits caused by lead are due to events regulated by protein kinase C that most likely occur at the synapse.</a:t>
            </a:r>
            <a:br>
              <a:rPr sz="2000"/>
            </a:b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AU" sz="1400" spc="-1" strike="noStrike">
                <a:solidFill>
                  <a:srgbClr val="000000"/>
                </a:solidFill>
                <a:latin typeface="Constantia"/>
              </a:rPr>
              <a:t>Bressler J, Kim KA, Chakraborti T, Goldstein GMolecular mechanisms of lead neurotoxicity.</a:t>
            </a:r>
            <a:r>
              <a:rPr b="0" lang="en-A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i="1" lang="en-AU" sz="1400" spc="-1" strike="noStrike">
                <a:solidFill>
                  <a:srgbClr val="000000"/>
                </a:solidFill>
                <a:latin typeface="Constantia"/>
              </a:rPr>
              <a:t>eurochem Res</a:t>
            </a:r>
            <a:r>
              <a:rPr b="0" lang="en-AU" sz="1400" spc="-1" strike="noStrike">
                <a:solidFill>
                  <a:srgbClr val="000000"/>
                </a:solidFill>
                <a:latin typeface="Constantia"/>
              </a:rPr>
              <a:t> 1999 Apr;24(4):595-600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9BB2-3731-413D-A2BE-4313A4E6A9B1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56502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Toxicology of Lead 3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38080" y="2057040"/>
            <a:ext cx="7848720" cy="36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603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The cellular, intracellular and molecular mechanisms of lead neurotoxicity are numerous, as lead impacts many biological activities at different levels of control: at the </a:t>
            </a:r>
            <a:r>
              <a:rPr b="0" lang="en-AU" sz="2400" spc="-1" strike="noStrike">
                <a:solidFill>
                  <a:srgbClr val="ff9933"/>
                </a:solidFill>
                <a:latin typeface="Constantia"/>
              </a:rPr>
              <a:t>voltage-gated channels and on the first, second and third messenger systems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. These effects could be related to lead's ability to </a:t>
            </a:r>
            <a:r>
              <a:rPr b="0" lang="en-AU" sz="2400" spc="-1" strike="noStrike">
                <a:solidFill>
                  <a:srgbClr val="ff9933"/>
                </a:solidFill>
                <a:latin typeface="Constantia"/>
              </a:rPr>
              <a:t>interfere with the regulatory action of calcium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 in cell functions.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Constantia"/>
              </a:rPr>
              <a:t>Finkelstein Y, Markowitz ME, Rosen JF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Constantia"/>
              </a:rPr>
              <a:t>Low-level lead-induced neurotoxicity in children: an update on central nervous system effects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AU" sz="1600" spc="-1" strike="noStrike">
                <a:solidFill>
                  <a:srgbClr val="000000"/>
                </a:solidFill>
                <a:latin typeface="Constantia"/>
              </a:rPr>
              <a:t>Brain Res Brain Res Rev</a:t>
            </a:r>
            <a:r>
              <a:rPr b="0" lang="en-AU" sz="1600" spc="-1" strike="noStrike">
                <a:solidFill>
                  <a:srgbClr val="000000"/>
                </a:solidFill>
                <a:latin typeface="Constantia"/>
              </a:rPr>
              <a:t> 1998 Jul;27(2):168-7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AC61-094B-4445-8F3F-75027B5A2653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Toxicology of Lead 4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At a neuronal level, exposure to </a:t>
            </a:r>
            <a:r>
              <a:rPr b="0" lang="en-AU" sz="2000" spc="-1" strike="noStrike">
                <a:solidFill>
                  <a:srgbClr val="ff9933"/>
                </a:solidFill>
                <a:latin typeface="Constantia"/>
              </a:rPr>
              <a:t>lead alters the release of neurotransmitter from presynaptic nerve endings. Spontaneous release is enhanced and evoked release is inhibited.</a:t>
            </a: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 The former may be due to activation of protein kinases in the nerve endings and the latter to blockade of voltage-dependent calcium channels. This disruption of neuronal activity may, in turn, alter the developmental processes of synapse formation and result in a less efficient brain with cognitive deficits. </a:t>
            </a:r>
            <a:r>
              <a:rPr b="1" lang="en-AU" sz="1600" spc="-1" strike="noStrike">
                <a:solidFill>
                  <a:srgbClr val="000000"/>
                </a:solidFill>
                <a:latin typeface="Constantia"/>
              </a:rPr>
              <a:t>Bressler JP, Goldstein GW</a:t>
            </a:r>
            <a:r>
              <a:rPr b="0" lang="en-A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Constantia"/>
              </a:rPr>
              <a:t>Mechanisms of lead neurotoxicity.</a:t>
            </a:r>
            <a:r>
              <a:rPr b="0" lang="en-A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AU" sz="1600" spc="-1" strike="noStrike">
                <a:solidFill>
                  <a:srgbClr val="000000"/>
                </a:solidFill>
                <a:latin typeface="Constantia"/>
              </a:rPr>
              <a:t>Biochem Pharmacol</a:t>
            </a:r>
            <a:r>
              <a:rPr b="0" lang="en-AU" sz="1600" spc="-1" strike="noStrike">
                <a:solidFill>
                  <a:srgbClr val="000000"/>
                </a:solidFill>
                <a:latin typeface="Constantia"/>
              </a:rPr>
              <a:t> 1991 Feb 15;41(4):479-84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Effect of lead on omega 3 and 6 fats.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5B8B-54D2-4F2B-96EA-41A081E287F7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704520"/>
            <a:ext cx="5483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Lead and the Elderl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8000" y="2491920"/>
            <a:ext cx="721044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isk of dementia increases with lead burd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isk of accidental lead inges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F242-A200-45BA-84AB-A9E7AC56E0C1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577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Dementia and lead 1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68360" y="2276640"/>
            <a:ext cx="8136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13800" indent="-235800">
              <a:lnSpc>
                <a:spcPct val="9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onstantia"/>
              </a:rPr>
              <a:t>The relationship between performance on cognitive tasks and circulating levels of lead in blood and accumulated levels of lead in bone was examined in 141 middle-aged and elderly men. Men with higher levels of blood and bone (tibia) lead copied spatial figures less accurately; men with higher levels of bone (tibia) lead had slower responses for pattern memory. </a:t>
            </a:r>
            <a:r>
              <a:rPr b="0" lang="en-AU" sz="2200" spc="-1" strike="noStrike">
                <a:solidFill>
                  <a:srgbClr val="ff9933"/>
                </a:solidFill>
                <a:latin typeface="Constantia"/>
              </a:rPr>
              <a:t>These findings suggest that low levels of lead contribute to impairments in cognitive function among elderly men.</a:t>
            </a:r>
            <a:br>
              <a:rPr sz="2200"/>
            </a:br>
            <a:r>
              <a:rPr b="1" lang="en-AU" sz="1400" spc="-1" strike="noStrike">
                <a:solidFill>
                  <a:srgbClr val="000000"/>
                </a:solidFill>
                <a:latin typeface="Constantia"/>
              </a:rPr>
              <a:t>Payton M, Riggs KM, Spiro A 3rd, Weiss ST, Hu H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AU" sz="1400" spc="-1" strike="noStrike">
                <a:solidFill>
                  <a:srgbClr val="000000"/>
                </a:solidFill>
                <a:latin typeface="Constantia"/>
              </a:rPr>
              <a:t>Relations of bone and blood lead to cognitive function: the VA Normative Aging Study.</a:t>
            </a:r>
            <a:r>
              <a:rPr b="0" lang="en-AU" sz="14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1400"/>
            </a:br>
            <a:r>
              <a:rPr b="0" i="1" lang="en-AU" sz="1400" spc="-1" strike="noStrike">
                <a:solidFill>
                  <a:srgbClr val="000000"/>
                </a:solidFill>
                <a:latin typeface="Constantia"/>
              </a:rPr>
              <a:t>Neurotoxicol Teratol</a:t>
            </a:r>
            <a:r>
              <a:rPr b="0" lang="en-AU" sz="1400" spc="-1" strike="noStrike">
                <a:solidFill>
                  <a:srgbClr val="000000"/>
                </a:solidFill>
                <a:latin typeface="Constantia"/>
              </a:rPr>
              <a:t> 1998 Jan-Feb;20(1):19-27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053A-2B2A-42D7-A8FA-FF7A37391549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7045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Dementia and Lead 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95280" y="227664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594720" indent="-2286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/~/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 the cross-sectional relationship between blood lead levels and a variety of measures of neuropsychological function in a large cohort of elderly women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/~/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 This study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/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 demonstrates that </a:t>
            </a:r>
            <a:r>
              <a:rPr b="0" lang="en-AU" sz="2400" spc="-1" strike="noStrike">
                <a:solidFill>
                  <a:srgbClr val="ff9933"/>
                </a:solidFill>
                <a:latin typeface="Constantia"/>
              </a:rPr>
              <a:t>blood lead levels as low as 8 micrograms/dl were significantly associated with poorer cognitive function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 as measured by certain neuropsychological tests. Even a slight decrement in cognition would have a large public health impact due to the large number of elderly at ris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lnSpc>
                <a:spcPct val="9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nstantia"/>
              </a:rPr>
              <a:t>Muldoon SB, Cauley JA, Kuller LH, Morrow L, Needleman HL, Scott J, Hooper FJ</a:t>
            </a:r>
            <a:r>
              <a:rPr b="0" lang="en-A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AU" sz="1400" spc="-1" strike="noStrike">
                <a:solidFill>
                  <a:srgbClr val="000000"/>
                </a:solidFill>
                <a:latin typeface="Constantia"/>
              </a:rPr>
              <a:t>Neuroepidemiology</a:t>
            </a:r>
            <a:r>
              <a:rPr b="0" lang="en-AU" sz="1400" spc="-1" strike="noStrike">
                <a:solidFill>
                  <a:srgbClr val="000000"/>
                </a:solidFill>
                <a:latin typeface="Constantia"/>
              </a:rPr>
              <a:t> 1996;15(2):62-72</a:t>
            </a:r>
            <a:r>
              <a:rPr b="1" lang="en-AU" sz="1400" spc="-1" strike="noStrike">
                <a:solidFill>
                  <a:srgbClr val="000000"/>
                </a:solidFill>
                <a:latin typeface="Constantia"/>
              </a:rPr>
              <a:t>Effects of blood lead levels on cognitive function of older women.</a:t>
            </a:r>
            <a:r>
              <a:rPr b="0" lang="en-AU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C32C-6DB0-46CA-A9BD-06530B40794E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533412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alibri"/>
              </a:rPr>
              <a:t>Niklowitz WJ Neurofibrillary changes after acute experimental lead poisoning.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r>
              <a:rPr b="0" i="1" lang="en-AU" sz="2000" spc="-1" strike="noStrike">
                <a:solidFill>
                  <a:srgbClr val="000000"/>
                </a:solidFill>
                <a:latin typeface="Calibri"/>
              </a:rPr>
              <a:t>Neurology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 1975 Oct;25(10):927-34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24000" y="2060640"/>
            <a:ext cx="82296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13800" indent="-2358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9933"/>
                </a:solidFill>
                <a:latin typeface="Constantia"/>
              </a:rPr>
              <a:t>Following acute tetraethyl lead intoxication in rabbits classic neurofibrillary tangles develop.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 As studied by electron microscopy, such tangles develop in hydropic degenerating neurons and consist primarily of bundles of 200 A diameter smooth tubules of enormous length. In two of 16 animals a few twisted tubules (periodicity of 800 A) also could be found. The significance of these lead-induced twisted tubules, so </a:t>
            </a:r>
            <a:r>
              <a:rPr b="0" lang="en-AU" sz="2400" spc="-1" strike="noStrike">
                <a:solidFill>
                  <a:srgbClr val="ff9933"/>
                </a:solidFill>
                <a:latin typeface="Constantia"/>
              </a:rPr>
              <a:t>characteristic of Alzheimer's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 pre-senile dementia in man, is discus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52B8-246B-4B92-B471-8F4D3442137A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70452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Unresolved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24000" y="2468520"/>
            <a:ext cx="8229600" cy="26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much does lead contribute to cognitive decline and Alzheimer’s diseas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 bone preserving therapies or calcium supplements reduce cognitive declin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s lead a modifiable risk factor for dementia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37B9-F2C3-4D98-A5A0-C9C321FCF08A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18960" y="404280"/>
            <a:ext cx="53686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Incidence of Elevated Blood Leads Sydney 1996 Mira Et Al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789F-E2B5-42F1-819F-A9A2BE0EFA58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4" descr="C:\WINDOWS\Application Data\Microsoft\Media Catalog\Sydney incidence 1996 2-4 yo.bmp"/>
          <p:cNvPicPr/>
          <p:nvPr/>
        </p:nvPicPr>
        <p:blipFill>
          <a:blip r:embed="rId1"/>
          <a:stretch/>
        </p:blipFill>
        <p:spPr>
          <a:xfrm>
            <a:off x="914400" y="1676520"/>
            <a:ext cx="7467480" cy="51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Rectangle 2" descr=""/>
          <p:cNvPicPr/>
          <p:nvPr/>
        </p:nvPicPr>
        <p:blipFill>
          <a:blip r:embed="rId1"/>
          <a:stretch/>
        </p:blipFill>
        <p:spPr>
          <a:xfrm>
            <a:off x="536400" y="341280"/>
            <a:ext cx="5840640" cy="1311480"/>
          </a:xfrm>
          <a:prstGeom prst="rect">
            <a:avLst/>
          </a:prstGeom>
          <a:ln w="0">
            <a:noFill/>
          </a:ln>
        </p:spPr>
      </p:pic>
      <p:sp>
        <p:nvSpPr>
          <p:cNvPr id="295" name="TextBox 26"/>
          <p:cNvSpPr/>
          <p:nvPr/>
        </p:nvSpPr>
        <p:spPr>
          <a:xfrm>
            <a:off x="900000" y="2276640"/>
            <a:ext cx="727236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Does Your Child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Have a brother or sister, housemate or playmate with an elevated blood lead level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Sometimes eat non-food items such as soil or pai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Have any of the following conditions sometimes associated with lead poisoning, eg iron deficiency anaemia, behaviour problem, learning problem or developmental dela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03280" y="144360"/>
            <a:ext cx="439272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Uses and Sources of Lead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042920" y="1773360"/>
            <a:ext cx="73454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Constantia"/>
                <a:ea typeface="Times New Roman"/>
              </a:rPr>
              <a:t>  </a:t>
            </a:r>
            <a:r>
              <a:rPr b="0" lang="en-US" sz="2400" spc="-1" strike="noStrike">
                <a:solidFill>
                  <a:srgbClr val="ff9933"/>
                </a:solidFill>
                <a:latin typeface="Constantia"/>
                <a:ea typeface="Times New Roman"/>
              </a:rPr>
              <a:t>Paint (until 197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Constantia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ff9933"/>
                </a:solidFill>
                <a:latin typeface="Constantia"/>
                <a:ea typeface="Times New Roman"/>
              </a:rPr>
              <a:t>Petrol (tetraethyl lead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Constanti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Constantia"/>
                <a:ea typeface="Times New Roman"/>
              </a:rPr>
              <a:t>Household dust (via settlement of air pollution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Constanti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Constantia"/>
                <a:ea typeface="Times New Roman"/>
              </a:rPr>
              <a:t>Ceiling du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Constanti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Constantia"/>
                <a:ea typeface="Times New Roman"/>
              </a:rPr>
              <a:t>Occupation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Sold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Ceramic glaz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Constantia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ff9933"/>
                </a:solidFill>
                <a:latin typeface="Constantia"/>
                <a:ea typeface="Times New Roman"/>
              </a:rPr>
              <a:t>Pesticides (lead arsenat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Constanti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Constantia"/>
                <a:ea typeface="Times New Roman"/>
              </a:rPr>
              <a:t>Cigaret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Mines, smelt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6B06-8ED8-4725-8B02-BB2B0C8D5C15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Rectangle 2" descr=""/>
          <p:cNvPicPr/>
          <p:nvPr/>
        </p:nvPicPr>
        <p:blipFill>
          <a:blip r:embed="rId1"/>
          <a:stretch/>
        </p:blipFill>
        <p:spPr>
          <a:xfrm>
            <a:off x="171360" y="122400"/>
            <a:ext cx="6497640" cy="130968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10920" y="1844280"/>
            <a:ext cx="74674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9933"/>
                </a:solidFill>
                <a:latin typeface="Constantia"/>
                <a:ea typeface="Times New Roman"/>
              </a:rPr>
              <a:t>If your child is aged between 9 and 48 months, does he or she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    </a:t>
            </a:r>
            <a:r>
              <a:rPr b="0" lang="en-A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Live in, or frequently visit, a house* built before 1970 with peeling or chipping paint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    </a:t>
            </a:r>
            <a:r>
              <a:rPr b="0" lang="en-A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Live in, or frequently visit, a house* built before 1970 with or ongoing renovation where old paint (interior or exterior) has been burnt or sanded off, or where ceilings, walls or floors demolished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    </a:t>
            </a:r>
            <a:r>
              <a:rPr b="0" lang="en-A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Live in, or frequently visit, a hous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near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Constantia"/>
                <a:ea typeface="Times New Roman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a lead releasing industry, eg lead mine, lead smelter, battery-recycling plant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Live with an adult whose job or hobby uses lead? (eg lead mining or smelting, automotive repair, panel-beating, leadlighting, fishing sinker making, electronics, shooting instruction, car-battery service/ repair or manufacture).</a:t>
            </a: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577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U.S. Lead Situation 1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95280" y="22762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1978 Lead banned from pai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1980's- Levels higher than Austral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Late 1980's Removal of lead from gasoli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1980's Universal questionnaire screen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1991 Universal blood tes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1990's Public housing progra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1990's Private housing progra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8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1990's Massive EPA environmental progra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FD04-8E25-4DAA-AF24-3F3A9CED8B97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70452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U.S. Lead Situation 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68360" y="2491920"/>
            <a:ext cx="8229600" cy="36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9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~1995 Title X regulations for sale of properties built before 1978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10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~1997 Lead litigation compensation approaches asbestos in some stat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1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1998 Builders, tradesmen required to issue documents warning clients of risk when they renovate properties built before 1978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1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1998 Successful reduction in community levels leads to reintroduction of questionnaire screening in some are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5300-33D6-4AFD-82D9-1116078479C2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2640" y="144360"/>
            <a:ext cx="515772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More Uses and Sources of Lead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44600" y="2106720"/>
            <a:ext cx="574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TV's, Computer monit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Batteries, Bullets Sink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Avi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X-ray shiel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Constantia"/>
                <a:ea typeface="Times New Roman"/>
              </a:rPr>
              <a:t>Crystal-ware (high levels in decanter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Explosiv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n-stick linings of pots (in the pas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lastic colouring (wire, blind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wt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DBFD-DA62-44DD-BB4C-3043EECE7975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2640" y="144360"/>
            <a:ext cx="392436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Absorption of Lead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ad goes down iron or calcium absorption pathway in GI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ildren absorb lead well orally (~50%) cf adults poorly (~10%). Children also have more hand to mouth activit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ad absorption is enhanced if diet is poor in iron or calciu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ica is one of the worst risk factor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ad can be inhal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etraethyl lead can be absorbed via ski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FA5E-C7F5-4CD2-B632-E795EDA1D79D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54374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Absorption of Lead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C8D1-CEB8-4DB4-A07F-EFA2A4CB4E11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4" descr="C:\WINDOWS\Application Data\Microsoft\Media Catalog\sources.gif"/>
          <p:cNvPicPr/>
          <p:nvPr/>
        </p:nvPicPr>
        <p:blipFill>
          <a:blip r:embed="rId1"/>
          <a:stretch/>
        </p:blipFill>
        <p:spPr>
          <a:xfrm>
            <a:off x="990720" y="1090440"/>
            <a:ext cx="5811840" cy="57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51656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Contribution of</a:t>
            </a:r>
            <a:br>
              <a:rPr sz="3600"/>
            </a:b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Sourc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S:\Leadgpc\BB Lead Poisoning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AEE0-B76E-4FEB-A3B1-494809822986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4" descr="C:\WINDOWS\Application Data\Microsoft\Media Catalog\Contribution of Sources to lead.bmp"/>
          <p:cNvPicPr/>
          <p:nvPr/>
        </p:nvPicPr>
        <p:blipFill>
          <a:blip r:embed="rId1"/>
          <a:stretch/>
        </p:blipFill>
        <p:spPr>
          <a:xfrm>
            <a:off x="658800" y="1341360"/>
            <a:ext cx="558792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-82800"/>
            <a:ext cx="56390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Reduction of Lead hazards in the hom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S:\Leadgpc\BB Lead Poisoning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DD19-AAD8-481D-8D80-B0F39FC7A942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028" descr="C:\WINDOWS\Application Data\Microsoft\Media Catalog\Redhazhs.bmp"/>
          <p:cNvPicPr/>
          <p:nvPr/>
        </p:nvPicPr>
        <p:blipFill>
          <a:blip r:embed="rId1"/>
          <a:stretch/>
        </p:blipFill>
        <p:spPr>
          <a:xfrm>
            <a:off x="971640" y="1197000"/>
            <a:ext cx="54468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52880" y="1600200"/>
            <a:ext cx="386712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istribution of Lead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029200" y="2895120"/>
            <a:ext cx="4006800" cy="33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95% long bon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inds into matrix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leased during osteolysi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4% brain, liver, kidney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% bloo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rosses placenta, foetal BBB is op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DBCC-8CD7-478C-B3A2-3E822FAB5205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5" descr="C:\WINDOWS\Application Data\Microsoft\Media Catalog\Distribution3.gif"/>
          <p:cNvPicPr/>
          <p:nvPr/>
        </p:nvPicPr>
        <p:blipFill>
          <a:blip r:embed="rId1"/>
          <a:stretch/>
        </p:blipFill>
        <p:spPr>
          <a:xfrm>
            <a:off x="990720" y="0"/>
            <a:ext cx="379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3T09:00:35Z</dcterms:created>
  <dc:creator>Dr. Ben Balzer;Edited by David J Ratcliffe</dc:creator>
  <dc:description/>
  <cp:keywords>The LEAD Group Inc.</cp:keywords>
  <dc:language>en-US</dc:language>
  <cp:lastModifiedBy>David J. Ratcliffe</cp:lastModifiedBy>
  <cp:lastPrinted>2000-09-19T00:54:19Z</cp:lastPrinted>
  <dcterms:modified xsi:type="dcterms:W3CDTF">2015-04-02T13:43:19Z</dcterms:modified>
  <cp:revision>8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lead.org.au</vt:lpwstr>
  </property>
  <property fmtid="{D5CDD505-2E9C-101B-9397-08002B2CF9AE}" pid="9" name="LinkColor">
    <vt:r8>16711782</vt:r8>
  </property>
  <property fmtid="{D5CDD505-2E9C-101B-9397-08002B2CF9AE}" pid="10" name="MailAddress">
    <vt:lpwstr>info@lead.org.a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L:\Web Site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